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75F-B78F-475E-A6FF-DFD0D8E5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2B5-D6B1-4045-861B-45D70CAD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7F9-CA8F-43AF-9F79-8140FF4C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513-D2C2-420E-847D-99156CBA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9A8-2F85-4314-8877-E3A71D74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D73-1E8F-4CBA-BE01-26F3E1D0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4E1-313D-4309-A1EA-17F2A389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839-6AF6-4927-8793-0845AA70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EF4-F40C-45A3-9E54-5D2CEE66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DCA-7514-4C65-8573-7752D208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152-99E5-425B-86F9-0A1AE880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F70-6802-46BE-8BDD-0611AF8D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6142-F587-482A-8A5F-F77661472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5920" y="304920"/>
            <a:ext cx="607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: CDF’s for the duration of expansions and contractions in the employmen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4720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34480" y="304920"/>
            <a:ext cx="60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2: CDF’s for the duration of expansions and contractions in industrial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8992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34840" y="304920"/>
            <a:ext cx="630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a: CDF’s for the steepness of expansions and contractions in the employmen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5656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35200" y="304920"/>
            <a:ext cx="631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b: CDF’s for the sharpness of expansions and contractions in the employmen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5656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36640" y="304920"/>
            <a:ext cx="596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c: CDF’s for the slope of expansions and contractions in the employmen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5656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33760" y="304920"/>
            <a:ext cx="627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a: CDF’s for the steepness of expansions and contractions in industrial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5656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33760" y="304920"/>
            <a:ext cx="62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b: CDF’s for the sharpness of expansions and contractions in industrial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5656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35560" y="304920"/>
            <a:ext cx="59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c: CDF’s for the slope of expansions and contractions in industrial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5656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01:44Z</dcterms:created>
  <dc:creator>rreis</dc:creator>
  <dc:description/>
  <dc:language>en-US</dc:language>
  <cp:lastModifiedBy>Alisdair McKay</cp:lastModifiedBy>
  <dcterms:modified xsi:type="dcterms:W3CDTF">2008-04-01T18:48:14Z</dcterms:modified>
  <cp:revision>19</cp:revision>
  <dc:subject/>
  <dc:title>Slide 1</dc:title>
</cp:coreProperties>
</file>